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D2F-0DE6-4886-BF5D-8D743624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460-B30C-4C80-A14C-307B97ED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537-F223-4240-BF22-F4603881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4177-D267-46C7-9422-6BB52CC3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5BC6-B744-47A8-A4EA-EE0E2901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E766-D0BE-4666-9C1D-1E95ECE8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26EF-ED15-449D-A27C-82F2F2F2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885A-3EDC-411C-BA2C-CFB063E4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9D74-B083-415D-A41B-289B1B6A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C29E-0462-4D54-AC76-3BEAF90B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D9B8-FA36-47CD-8F46-B64EE861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471-21B1-4558-9193-DC04919A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FBEC-5847-41A4-BA3B-9C007BF1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B4CB-07D3-438A-84CF-CBAB256B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572E-CFED-48DB-B354-6623C22D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3B52-776E-4387-B0FA-61B6683F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1600-92EC-4844-9529-6989C346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A4E-629F-44ED-8D93-03F3512B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544-7E9E-4D14-803C-71047566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CB4-00CB-49F2-ABF8-21FABC38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D0A-7C67-4726-A32F-07A0D20B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8AD-D8E4-41CD-9BE4-EFC68D97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34F-16DA-4693-8570-10287D05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95F-A478-4A56-8FD6-CCB3B6D7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5E62-91F0-4F73-9B63-2DA765328E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1561-E1DF-412A-B441-B781392AD1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Unit 2 B Socializ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evelopment model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20" y="5791320"/>
            <a:ext cx="90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ain, C.M., &amp; Colyer, J.S. (2001).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e Human wa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New York: Oxford University Pr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-609480">
              <a:lnSpc>
                <a:spcPct val="90000"/>
              </a:lnSpc>
              <a:buClr>
                <a:srgbClr val="0066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ocial Experience Theory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–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Cooley and Mead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elf does not exist at bi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 development is based on how we think others see us. (Nurture bas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looking gla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”  - the idea that we see ourselves as having the features we think others see in 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3.  Social Experience Theory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–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Cooley and Mead 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 – Self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(subjective self) initiates social ac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Sel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 – Self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objective self – plays the role of the oth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son) forms impressions about the I-self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ased on the responses of the other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If the I-self initiates a social action (asks a guy on a date) If the guy says yes, the me-self is molded positively.  If the guy says no, the me-self is molded negative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refore, children’s social experiences are vital to their development of the Me-sel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5120" y="2742840"/>
            <a:ext cx="45720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3048120"/>
            <a:ext cx="380880" cy="304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3.  Social Experience Theory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–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Cooley and Mead 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riticisms / problems / 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riticized for down-playing the biological ele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the self (the nature side of the debate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4.  Psychosocial Development Theory – Erik Eriks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8 chronological stages of development that describe a person’s entire lif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t each stage individuals face a conflict between social demands and personal w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lf emerges as we successfully or unsuccessfully resolve all 8 confli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28600" y="609480"/>
          <a:ext cx="8763120" cy="5867640"/>
        </p:xfrm>
        <a:graphic>
          <a:graphicData uri="http://schemas.openxmlformats.org/drawingml/2006/table">
            <a:tbl>
              <a:tblPr/>
              <a:tblGrid>
                <a:gridCol w="2075040"/>
                <a:gridCol w="820440"/>
                <a:gridCol w="3022560"/>
                <a:gridCol w="284508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ag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g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erience +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erience -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ust v. Mistru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-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rent care: physical /psychological need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ck of care uncertain parental lov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onomy v. shame, doub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 y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couragement,  clear discipli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iticism, overprotective discipli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itiative v. guil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-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couragement of child’s interests, parental prid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iticism of child’s failur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y v. inferiorit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-1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uidance and praise of academic/social developm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o high/low expectations to success in schoo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entity v. diffus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ol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rong role models to promote self-esteem and life goal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 role models, social demands cause inner turmo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imacy v. isola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oung    adul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ealthy identity – concern for others – caring relationship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cus on the self over others fear of being hurt by bad rel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nerativity. isolation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ult - ho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ke good personal decisions, success, enjoy work, concern for growth othe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f-centered, lack of concern for othe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grity v. despai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ld 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f-confident, having led a complete life - satisfac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pression, lacking fulfillment, sense of failur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440" y="152280"/>
            <a:ext cx="55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Psychosocial Development Theory – Erik Eriks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4.  Psychosocial Development Theory – Erik Erikson. 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riticism / problems / crit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del is too rigid – not everyone proceeds at same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ill highly popular (simple, complete, logic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.  Moral Development Theory – Lawrence Kohlber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bility to judge morality depends on stage of brain development (critical of Cooley and Mead, intrigued by Piage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go from believing in black and white rules to questioning and understanding them as shade of gre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.  Moral Development Theory – Lawrence Kohlberg. 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42670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3809880"/>
            <a:ext cx="2666880" cy="2514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96252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ung childre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decide on an action solely on whether of not it is in their direct personal interest - rules are rules, not to be broken, never varied, or punish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743200"/>
            <a:ext cx="2666880" cy="2819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324120" y="2133360"/>
            <a:ext cx="2667240" cy="205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 beyond blind acceptance of society’s nor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 Are rules ethically justified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743200"/>
            <a:ext cx="274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enag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 acknowledge the needs of others (less selfish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ight and wrong need t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 consistent with society’s norm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may vary according to circumstanc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505320"/>
            <a:ext cx="268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Preconventional st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7800" y="23623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Conventional st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95400" y="1752480"/>
            <a:ext cx="2747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Postconventional st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971800" y="5562720"/>
            <a:ext cx="1523880" cy="7617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943600" y="4191120"/>
            <a:ext cx="1600200" cy="1371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.  Moral Development Theory – Lawrence Kohlberg. 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riticism / problems / conclus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ages are too rigid, not everyone achieves them a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nly boys were used as research subjec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6.  Gender-Based Theory – Carol Gillig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ritiqued Lawrence Kohlberg – using boys only in his stud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Gender based moral perspectives: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Male morality –   “</a:t>
            </a:r>
            <a:r>
              <a:rPr b="1" i="1" lang="en-GB" sz="1800" spc="-1" strike="noStrike">
                <a:solidFill>
                  <a:srgbClr val="003366"/>
                </a:solidFill>
                <a:latin typeface="Arial"/>
              </a:rPr>
              <a:t>Justice”  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perspective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( use rules and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bstract principles when defining what is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right and wrong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Female morality – “</a:t>
            </a:r>
            <a:r>
              <a:rPr b="1" i="1" lang="en-GB" sz="1800" spc="-1" strike="noStrike">
                <a:solidFill>
                  <a:srgbClr val="003366"/>
                </a:solidFill>
                <a:latin typeface="Arial"/>
              </a:rPr>
              <a:t>Care and responsibility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” perspective (judge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ctions by how they affect personal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relationships and loyal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Boys will sacrifice relationships to preserve ru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Girls will bend rules to preserve relationship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ization Stage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cial scientists have attempted to break down the human process of absorbing our experiences to become complete selves, into stag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sychosexual Theory – Freud (1856-193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gnitive Development Theory – Piaget (1896-198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cial Experience Theory – Cooley (1864-1929) &amp; Mead (1863-193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yschosocial Development Theory – Erikson (1902-1994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al Development Theory – Kohlberg (1966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nder-based Theory – Gillian  (1992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6.  Gender-Based Theory – Carol Gilligan. 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riticism / problems / conclus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esn’t say why the gender differences exist (nature or nurture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d only a narrow range of ag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support her findings - val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.  Psychosexual Theory – Freu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scious mi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n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conscious Min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per eg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sumption:  All born with the instinctive impulse to seek pleasure and avoid pain –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is instinct my come into conflict with the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ego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Which tells us to obey the expectations of society and family.  The id and ego battle it out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sonality is the result of which wins, the id or ego, at various points in our liv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523880" y="2514240"/>
            <a:ext cx="11430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819520"/>
            <a:ext cx="114300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800600" y="2742840"/>
            <a:ext cx="144792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3048120"/>
            <a:ext cx="1523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3048120"/>
            <a:ext cx="1523880" cy="304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.  Psychosexual Theory – Freud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d           </a:t>
            </a: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vs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      Ego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(Extreme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  Selfish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 consider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 concerned for oth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 distant and cool in our personal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relationshi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combination of id and ego results in a personality somewhat more moderat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riticism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Less accepted toda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nborn, unconscious motivations are less accepted than external factors (no biological proof) – more focus on nurture, not natu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Freud said males were normal and females inferio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2666880"/>
            <a:ext cx="0" cy="10670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. Psychosexual Theory – Freud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6080" cy="4173480"/>
        </p:xfrm>
        <a:graphic>
          <a:graphicData uri="http://schemas.openxmlformats.org/drawingml/2006/table">
            <a:tbl>
              <a:tblPr/>
              <a:tblGrid>
                <a:gridCol w="1219680"/>
                <a:gridCol w="1372320"/>
                <a:gridCol w="2744280"/>
                <a:gridCol w="2359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ag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’s Pleasure focu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gns in Adulthood that the Id w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  Or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irth – 18 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al gratification - suck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utting things in mout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vereating, smoking, nail-bit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 An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 m – 3 y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wl pleasur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isting toilet train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eanness, obsessive neatness, resentment of authorit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  Phall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-6 y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wareness of sex organ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edipus /Electra comple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fishness, poor opposite-sex relationship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  Latenc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yrs to pubert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ame-sex friend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w opposite-sex friend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ck of close friend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 Genit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olescen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ting and marri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xual energ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uilt about sexuality, feelings of inadequac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. Psychosexual Theory – Freud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riticism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Less accepted to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born, unconscious motivations are less accepted than external factors (no biological proof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oday we have a balanced focus on both nurture and na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reud said males were normal and females inferi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.  Cognitive Development Theory  - Piage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hildren go through chronological developmental stages of intelli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rderly and predic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lf emerges as each step is master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cess of learning… limited by the development of the human br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.  Cognitive Development Theory  - Piaget 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2362320"/>
          <a:ext cx="8153280" cy="3801960"/>
        </p:xfrm>
        <a:graphic>
          <a:graphicData uri="http://schemas.openxmlformats.org/drawingml/2006/table">
            <a:tbl>
              <a:tblPr/>
              <a:tblGrid>
                <a:gridCol w="1676520"/>
                <a:gridCol w="914400"/>
                <a:gridCol w="556236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aracteristics </a:t>
                      </a:r>
                      <a:r>
                        <a:rPr b="0" i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concluded from experiments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  Sensorimo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irth – 2 y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arn by touching, egocentric (don’t understand others’ experiences), something exists only when you can see i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 Pre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-7 y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derstands symbols, understands that things can exist when you can’t see them (including concepts - cat, dog), Can’t understand why others can be right and they, wro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  Concrete  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-11 y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ve logic - understand principles of measurement and size, quantities may be equal although arranged different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  Formal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 yrs +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ink abstractly – “on my right-hand side”, recognize other’s experiences and that others may by right or wro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.  Cognitive Development Theory  - Piaget 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riticisms / problems / conclusion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everyone progresses through the stages at same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30% of 30 year olds not at formal operation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5:03:04Z</dcterms:created>
  <dc:creator>Administrator</dc:creator>
  <dc:description/>
  <dc:language>en-US</dc:language>
  <cp:lastModifiedBy>Customer</cp:lastModifiedBy>
  <dcterms:modified xsi:type="dcterms:W3CDTF">2010-11-02T14:29:24Z</dcterms:modified>
  <cp:revision>7</cp:revision>
  <dc:subject/>
  <dc:title>Unit 2 B Socialization</dc:title>
</cp:coreProperties>
</file>